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756-51D0-4753-96BD-B23DCBC1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FCD-0FBF-45C2-9450-CDFE444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F2F-CFCE-4B46-BFDD-2989ED58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4A9-7F84-4AA0-A53D-3C0A8498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230-CDE5-41CD-9CBB-19931E5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5EA-FC0B-4D52-A79C-4F26FCC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854-C7A2-4D9C-A369-AFA0C9D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785-6FFA-4D1D-B8D7-2BCCA4E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34A-0F8B-4ED4-A313-F0475D5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369-C636-4E98-B00E-8624A4A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A82-C88A-466E-A56B-3F934CE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879-1ABA-4583-8475-8994A8C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D81-0C34-4B8E-A97A-C08C163C1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Gigi"/>
              </a:rPr>
              <a:t>This Is Just To Sa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76360" y="3962160"/>
            <a:ext cx="2819160" cy="68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igi"/>
              </a:rPr>
              <a:t>Molly &amp; C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114800" cy="2971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I have dis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e pupp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at were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 wicker bas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962520" y="3124080"/>
            <a:ext cx="4762440" cy="3171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04920" y="304920"/>
            <a:ext cx="4190760" cy="312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nd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you were proba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rying to 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for m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762440" cy="33811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57200" y="533520"/>
            <a:ext cx="5105520" cy="335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Forgive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ey were whimper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so helpl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nd so ador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086280" cy="41148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962520" cy="99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Gigi"/>
              </a:rPr>
              <a:t>Works Ci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4920" y="1905120"/>
            <a:ext cx="6782040" cy="4495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Mum_nz_2001.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love in a basket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8272113@N06/3040622760/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&gt;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Spud. 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appy Birthday to ME!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shaun/3085533992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/&gt;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Toronja Azul. 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Chihuahua puppy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toronjazul/1021281791/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&gt;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27:38Z</dcterms:created>
  <dc:creator>molly.smith</dc:creator>
  <dc:description/>
  <dc:language>en-US</dc:language>
  <cp:lastModifiedBy>cyndi.vander_ven</cp:lastModifiedBy>
  <dcterms:modified xsi:type="dcterms:W3CDTF">2009-04-27T00:56:21Z</dcterms:modified>
  <cp:revision>12</cp:revision>
  <dc:subject/>
  <dc:title>This Is Just To Say…</dc:title>
</cp:coreProperties>
</file>